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50DC-D673-4EDF-BC9F-86A9CF01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7273-3AEF-4C37-A65F-8240B8E3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C5E4-0F1A-4A76-B37F-47E951FC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309F-2608-4947-BF0B-C90FB34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5244-7B64-45D6-9318-E976CAB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946F-CF2F-4F78-86FE-D249148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FAB-89DC-4D50-9F59-752C8E38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4067-F6EC-4239-8C6A-01C96F1E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24F9-C809-4CB0-9530-7068B01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37A8-55CE-450C-A8F5-9F1E39D7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8760-18CC-4F18-8E0D-54671786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E54B-BFAA-4D13-BE69-3BAD62D6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D5A7-2E8E-4104-A8EC-F325D17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9B4D-13AD-42B3-BDD9-840A3036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290-50A8-4B0F-951E-648F6B3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915F-6BC4-46BE-BE82-7489C613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4F31-B861-4E2E-9978-920739E5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7488-9ED1-4DED-ADAD-E78C3977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EB13-6436-4C20-A75B-0B5C8D4D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7D07-CE92-4432-9674-858E370C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A872-E5B5-4A5F-BCBD-25A864E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F1CA-1DBC-4F96-814F-4D85324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779F-499F-4918-B78F-098EFFA0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C333D-3E19-4ED3-86DC-E5B86DF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29F-1E47-4780-8728-C5C05F107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5F6-21B6-4C27-B612-78059BCF8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i de la autobu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6:41Z</dcterms:modified>
  <cp:revision>6</cp:revision>
  <dc:subject/>
  <dc:title>Petrolul mişcă omenirea</dc:title>
</cp:coreProperties>
</file>